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4A9F4-3C98-4FD5-B4D6-68C6AAA4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8F9ED-D139-4CD5-8F32-7CEE351D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17461-7054-4A29-88AA-8361C4C1B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9E72A-1A65-47E5-B4B2-16140C8CD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67A5-65F5-486B-B7CA-B9AEC1B39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5FDB-3EF1-42EE-ADF7-58D1C709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E0A1-1CFC-48EB-AF2F-F029CA83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AA03-B707-4397-8CE9-0004A37D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E6C1-27B0-41D5-A6A2-A1BFBE3C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365F-5ABB-4049-A22D-63FA4915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82A4-F65C-41C8-8933-D4656077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0D083-F77C-4B73-9F3F-F2F3C80A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0234-59AF-416D-B1AB-AFEF60FF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12C3-DD82-4040-B983-41E93488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F7E0-3811-49D8-8D67-FF292394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D308-D16E-4162-BD91-018A4644A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06D6-2CAF-473C-A84F-9A3551D27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09280-F5A5-47B6-8689-6B21D44E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A1AC6-E5C4-4E29-AD21-D806F4D6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DB42C-50C8-450A-B4B9-C9474390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02262-07C2-4AAB-97A1-8FED9516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C5965-628A-4E06-88C5-C86DBA79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AF4C8-A00B-40A0-8547-96EA1E43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F8D32-B974-4CE7-B684-38A20BAD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75BA-D9F1-4C3E-A5F8-8E0DA5B7D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FBBD-357B-4BEB-AC0C-36EA21276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3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9.png"/><Relationship Id="rId5" Type="http://schemas.openxmlformats.org/officeDocument/2006/relationships/image" Target="../media/image1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Garamond"/>
              </a:rPr>
              <a:t>Me llamo _______ Clase 6NH (601)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Garamond"/>
              </a:rPr>
              <a:t>La fecha es el 24 de septiembre del 2012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Garamond"/>
              </a:rPr>
              <a:t>Propósito # 2:</a:t>
            </a:r>
            <a:r>
              <a:rPr b="0" lang="es-ES_tradnl" sz="32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¿ Cuáles son los pronombres en español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Garamond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s-ES_tradnl" sz="32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0" lang="es-ES_tradnl" sz="3200" spc="-1" strike="noStrike">
                <a:solidFill>
                  <a:srgbClr val="333399"/>
                </a:solidFill>
                <a:latin typeface="Garamond"/>
              </a:rPr>
              <a:t>What is a SUBJECT PRONOUN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 subject pronoun is a word that REPLACES a noun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i.e.             Robert is very smar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He is very smar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4495680"/>
            <a:ext cx="1143000" cy="457200"/>
          </a:xfrm>
          <a:prstGeom prst="ellipse">
            <a:avLst/>
          </a:prstGeom>
          <a:noFill/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360" y="434340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su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5486400"/>
            <a:ext cx="533160" cy="53352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9125600">
            <a:off x="1677240" y="504324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repl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752480" y="4876560"/>
            <a:ext cx="609840" cy="6094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601992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Prono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Los pronombres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31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Los </a:t>
            </a: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Garamond"/>
              </a:rPr>
              <a:t>pronombres</a:t>
            </a: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 son las palabras que remplazan los nombres o sustantivos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En español, los pronombres son</a:t>
            </a:r>
            <a:r>
              <a:rPr b="0" i="1" lang="es-ES_tradnl" sz="32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26668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Verdana"/>
              </a:rPr>
              <a:t>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32907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Verdana"/>
              </a:rPr>
              <a:t>*T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242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*É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4419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Verdana"/>
              </a:rPr>
              <a:t>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5105520"/>
            <a:ext cx="272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Verdana"/>
              </a:rPr>
              <a:t>Usted (U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11640" y="2666880"/>
            <a:ext cx="272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Verdana"/>
              </a:rPr>
              <a:t>Nos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63920" y="327672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8000"/>
                </a:solidFill>
                <a:latin typeface="Verdana"/>
              </a:rPr>
              <a:t>V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191120"/>
            <a:ext cx="272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Verdana"/>
              </a:rPr>
              <a:t>El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4815000"/>
            <a:ext cx="272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Verdana"/>
              </a:rPr>
              <a:t>El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55008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Verdana"/>
              </a:rPr>
              <a:t>Ustedes (Ud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81080" y="27273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5120" y="33526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You (famili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39466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05120" y="44956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577548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You (polite, singul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272736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5880" y="387036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You (familiar,plu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553080" y="434340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hey (guys,mix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53080" y="48769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hey (girls on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608004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You (polite/familiar plur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(You’s gu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200400"/>
            <a:ext cx="1523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43400" y="5486400"/>
            <a:ext cx="3124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190760" y="3505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190760" y="5943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2767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2797200" y="4319280"/>
            <a:ext cx="2362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3300"/>
                </a:solidFill>
                <a:latin typeface="Verdana"/>
              </a:rPr>
              <a:t>Es lo mism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3200400"/>
            <a:ext cx="1523880" cy="609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419720" y="3200040"/>
            <a:ext cx="1523880" cy="609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838080" cy="633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143000" y="3276720"/>
            <a:ext cx="838080" cy="539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066680" y="3809880"/>
            <a:ext cx="914400" cy="560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990720" y="4419720"/>
            <a:ext cx="914400" cy="565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2590920" y="5029200"/>
            <a:ext cx="914400" cy="779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6172200" y="2514600"/>
            <a:ext cx="655560" cy="685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5410080" y="4191120"/>
            <a:ext cx="1143000" cy="591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5410080" y="4800600"/>
            <a:ext cx="1067040" cy="600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9"/>
          <a:stretch/>
        </p:blipFill>
        <p:spPr>
          <a:xfrm>
            <a:off x="7620120" y="5457960"/>
            <a:ext cx="1066680" cy="637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0"/>
          <a:stretch/>
        </p:blipFill>
        <p:spPr>
          <a:xfrm>
            <a:off x="6705720" y="3325680"/>
            <a:ext cx="914400" cy="560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1"/>
          <a:stretch/>
        </p:blipFill>
        <p:spPr>
          <a:xfrm>
            <a:off x="6400800" y="3346560"/>
            <a:ext cx="83808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6600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Garamond"/>
              </a:rPr>
              <a:t>El pronombre </a:t>
            </a:r>
            <a:r>
              <a:rPr b="0" lang="es-ES_tradnl" sz="4400" spc="-1" strike="noStrike">
                <a:solidFill>
                  <a:srgbClr val="008000"/>
                </a:solidFill>
                <a:latin typeface="Garamond"/>
              </a:rPr>
              <a:t>Vosotros</a:t>
            </a:r>
            <a:r>
              <a:rPr b="0" lang="es-ES_tradnl" sz="4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4400" spc="-1" strike="noStrike">
                <a:solidFill>
                  <a:srgbClr val="ff3300"/>
                </a:solidFill>
                <a:latin typeface="Garamond"/>
              </a:rPr>
              <a:t>no lo vamos a usar (por ahora)</a:t>
            </a:r>
            <a:r>
              <a:rPr b="0" lang="es-ES_tradnl" sz="4400" spc="-1" strike="noStrike">
                <a:solidFill>
                  <a:srgbClr val="000000"/>
                </a:solidFill>
                <a:latin typeface="Garamond"/>
              </a:rPr>
              <a:t> porque es lo mismo que </a:t>
            </a: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Garamond"/>
              </a:rPr>
              <a:t>Ustedes.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Garamond"/>
              </a:rPr>
              <a:t>*</a:t>
            </a:r>
            <a:r>
              <a:rPr b="1" lang="es-ES_tradnl" sz="3200" spc="-1" strike="noStrike">
                <a:solidFill>
                  <a:srgbClr val="000000"/>
                </a:solidFill>
                <a:latin typeface="Garamond"/>
              </a:rPr>
              <a:t>Sin el acento:</a:t>
            </a:r>
            <a:r>
              <a:rPr b="1" lang="es-ES_tradnl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Garamond"/>
              </a:rPr>
              <a:t>           </a:t>
            </a:r>
            <a:r>
              <a:rPr b="1" lang="es-ES_tradnl" sz="3200" spc="-1" strike="noStrike">
                <a:solidFill>
                  <a:srgbClr val="000000"/>
                </a:solidFill>
                <a:latin typeface="Garamond"/>
              </a:rPr>
              <a:t>Tu = Your</a:t>
            </a:r>
            <a:r>
              <a:rPr b="1" lang="es-ES_tradnl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Garamond"/>
              </a:rPr>
              <a:t>El = The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5181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Practica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320" y="68544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¿Qué pronombre se usa..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uando habl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d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Rosa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uando habl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con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tu hermana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uando habl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d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ti mismo y tus amigo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uando habl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con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tus padr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uando habl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d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ti mismo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uando habl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con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na, Rosa &amp; Mia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114800" y="1074600"/>
            <a:ext cx="1219320" cy="754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257800" y="1828800"/>
            <a:ext cx="1143000" cy="7365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324480" y="2590920"/>
            <a:ext cx="873360" cy="9144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4952880" y="3581280"/>
            <a:ext cx="1219320" cy="728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4648320" y="4343400"/>
            <a:ext cx="914400" cy="6904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5867280" y="5334120"/>
            <a:ext cx="144792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Tarea # 2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mpleta la hoja distribuid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4:11:01Z</dcterms:created>
  <dc:creator>Helen Zumaeta</dc:creator>
  <dc:description/>
  <dc:language>en-US</dc:language>
  <cp:lastModifiedBy>Helen Zumaeta</cp:lastModifiedBy>
  <dcterms:modified xsi:type="dcterms:W3CDTF">2012-09-22T19:25:45Z</dcterms:modified>
  <cp:revision>20</cp:revision>
  <dc:subject/>
  <dc:title>Me llamo _______   Clase  6 IM La fecha es el 19 de abril del 2010</dc:title>
</cp:coreProperties>
</file>